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43A5-8939-49C6-B03C-09AFED5C1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4819-AFA1-4103-B8DC-53F5CA407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733400" y="539640"/>
            <a:ext cx="3229200" cy="2422800"/>
          </a:xfrm>
          <a:prstGeom prst="rect">
            <a:avLst/>
          </a:prstGeom>
          <a:ln w="0">
            <a:noFill/>
          </a:ln>
        </p:spPr>
      </p:sp>
      <p:sp>
        <p:nvSpPr>
          <p:cNvPr id="146" name="PlaceHolder 2"/>
          <p:cNvSpPr>
            <a:spLocks noGrp="1"/>
          </p:cNvSpPr>
          <p:nvPr>
            <p:ph type="body"/>
          </p:nvPr>
        </p:nvSpPr>
        <p:spPr>
          <a:xfrm>
            <a:off x="685800" y="2987640"/>
            <a:ext cx="5486400" cy="547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D64D-BED0-48BD-893C-722B50B36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206800" y="684360"/>
            <a:ext cx="2654280" cy="1990440"/>
          </a:xfrm>
          <a:prstGeom prst="rect">
            <a:avLst/>
          </a:prstGeom>
          <a:ln w="0">
            <a:noFill/>
          </a:ln>
        </p:spPr>
      </p:sp>
      <p:sp>
        <p:nvSpPr>
          <p:cNvPr id="173" name="PlaceHolder 2"/>
          <p:cNvSpPr>
            <a:spLocks noGrp="1"/>
          </p:cNvSpPr>
          <p:nvPr>
            <p:ph type="body"/>
          </p:nvPr>
        </p:nvSpPr>
        <p:spPr>
          <a:xfrm>
            <a:off x="685800" y="2842920"/>
            <a:ext cx="569592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vid Cottrell y Eric Harvey, en su libro </a:t>
            </a:r>
            <a:r>
              <a:rPr b="0" lang="es-ES" sz="1200" spc="-1" strike="noStrike" u="sng">
                <a:solidFill>
                  <a:srgbClr val="000000"/>
                </a:solidFill>
                <a:uFillTx/>
                <a:latin typeface="Calibri"/>
              </a:rPr>
              <a:t>Liderazgo Coraje</a:t>
            </a:r>
            <a:r>
              <a:rPr b="0" lang="es-ES" sz="12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están sólo recientemente comenzando a ser alentadas a utilizar sus habilidades de liderazgo en la organización de la iglesia, parecerá un poco temeroso dar un paso adelante y servir en áreas donde pocas mujeres han servido antes, aún cuando las puertas se han abierto más ampliamente. Muchas mujeres le dirán que se resistieron a la oportunidad de cambiar porque tenían miedo de lo que podría suceder en el futuro, la oposición era uno de sus mayores te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 las mujeres se les debe enseñar que este tipo de resistencia es natural, no importa quién usted es. Como seres humanos, todos nosotros, hombres y mujeres, queremos permanecer en nuestras zonas de comodidad, queremos estar en control; y el cambio nos hace renunciar a ese control, al menos hasta que hayamos dominado lo que ahora resistimos. Y si hemos sido productivos todo el tiempo, podría ser motivo para cambiar de nuevo.</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B84B-0613-4833-8DED-3A3D1CDAB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092320" y="539640"/>
            <a:ext cx="2654280" cy="1990800"/>
          </a:xfrm>
          <a:prstGeom prst="rect">
            <a:avLst/>
          </a:prstGeom>
          <a:ln w="0">
            <a:noFill/>
          </a:ln>
        </p:spPr>
      </p:sp>
      <p:sp>
        <p:nvSpPr>
          <p:cNvPr id="176"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el Señor la ha llamado para liderar, en vez de hacer la pregunta, “¿Por qué a mí Señor?”, piense “¿Por qué no yo?”. Recuerde que si Dios la está llamando, Él no la está llamando para hacer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5A81-36C0-47C6-A160-993C729077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20760" y="395280"/>
            <a:ext cx="2367000" cy="1774800"/>
          </a:xfrm>
          <a:prstGeom prst="rect">
            <a:avLst/>
          </a:prstGeom>
          <a:ln w="0">
            <a:noFill/>
          </a:ln>
        </p:spPr>
      </p:sp>
      <p:sp>
        <p:nvSpPr>
          <p:cNvPr id="179" name="PlaceHolder 2"/>
          <p:cNvSpPr>
            <a:spLocks noGrp="1"/>
          </p:cNvSpPr>
          <p:nvPr>
            <p:ph type="body"/>
          </p:nvPr>
        </p:nvSpPr>
        <p:spPr>
          <a:xfrm>
            <a:off x="685800" y="2339640"/>
            <a:ext cx="5486400" cy="611820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QUESTIONS TO PONDER AND DISCUSS: </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o you see yourself as a woman God has called to lead? If so, in what areas?</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an a woman know that God has called her to perform a certain task?</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omfortable do you feel following a woman leader?</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E566-A845-496C-8AF5-12CAA9A53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95640" y="755640"/>
            <a:ext cx="2365200" cy="1774800"/>
          </a:xfrm>
          <a:prstGeom prst="rect">
            <a:avLst/>
          </a:prstGeom>
          <a:ln w="0">
            <a:noFill/>
          </a:ln>
        </p:spPr>
      </p:sp>
      <p:sp>
        <p:nvSpPr>
          <p:cNvPr id="182"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3</a:t>
            </a:r>
            <a:r>
              <a:rPr b="1" lang="en-US" sz="1200" spc="-1" strike="noStrike">
                <a:solidFill>
                  <a:srgbClr val="000000"/>
                </a:solidFill>
                <a:latin typeface="Garamond"/>
              </a:rPr>
              <a:t>:  DESARROLLE LAS HABILIDADES DE LIDERAZGO QUE DIOS LE HA CONCEDI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lgunas de las cosas que necesitará descubrir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ducir brillantemente, de manera que refleje sus propios valores y person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liberar los rasgos personales y energías que usted nunca supo que ten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ectarse tanto en el ambiente del grupo como en cada uno de los context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usted nunca ha liderado antes, le será útil asistir a seminarios de liderazgo o incluso tomar una clase de liderazgo. Si desea tener éxito al más alto nivel, tanto usted como quienes la rodean, deberán aprendan lo suficiente del liderazgo para guiar a los demás de manera eficaz. Una de las maneras más rápidas para desarrollarse usted misma, podría ser la de contactarse con por lo menos 10 a 12 mujeres que usted conoce y cree que pueden ayudarle a alcanzar sus objetivos de liderazgo. De vez en cuando repase su lista y por cada persona que haya nombrado, hágase las siguientes pregunt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Por qué esta persona debería apoyar mi vis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Qué esta persona tendría que darme? En otras palabras ¿Cuánto le costaría?</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E4D2-BE7B-4417-B4B0-BEE7F633A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057400" y="395280"/>
            <a:ext cx="2655720" cy="1992240"/>
          </a:xfrm>
          <a:prstGeom prst="rect">
            <a:avLst/>
          </a:prstGeom>
          <a:ln w="0">
            <a:noFill/>
          </a:ln>
        </p:spPr>
      </p:sp>
      <p:sp>
        <p:nvSpPr>
          <p:cNvPr id="185"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las habilidades de liderazgo que usted siente que ahora pose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ómo usted continuará desarrollándolas para que sean usadas en el servicio de Di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Cómo está usando actualmente sus habilidades de liderazgo?</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F2D1-5D0D-4747-9C9B-83745111D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68640" y="395280"/>
            <a:ext cx="2465280" cy="1847880"/>
          </a:xfrm>
          <a:prstGeom prst="rect">
            <a:avLst/>
          </a:prstGeom>
          <a:ln w="0">
            <a:noFill/>
          </a:ln>
        </p:spPr>
      </p:sp>
      <p:sp>
        <p:nvSpPr>
          <p:cNvPr id="188"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4:</a:t>
            </a:r>
            <a:r>
              <a:rPr b="1" lang="en-US" sz="1200" spc="-1" strike="noStrike">
                <a:solidFill>
                  <a:srgbClr val="000000"/>
                </a:solidFill>
                <a:latin typeface="Garamond"/>
              </a:rPr>
              <a:t>  LIDERE COMO UNA MUJER Y NO COMO UN HOMBRE</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atendida de poder para reali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onna Lichtenberg llama a esto “Lanzándose como una niña”. En su libro de ese mismo título, ella dice: “Todos nosotros nos lanzamos, en distintos momentos y en diversas situaciones para conseguir lo que necesitamos y queremos en la vida. Pero generalmente no reconocemos lo que estamos haciendo cuando nos lanza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lanzarse? Ronna dice: “Un lanzamiento no es nada más o nada menos que usar su influencia, habilidades y poderes de persuasión para ganar apoyo y lograr que las personas hagan lo que usted quiere que ellas hagan. Lanzarse es obtener el apoyo de alguien para sus objetivos. Esto es tratar de afirmar su visión de lo que debería ocurrir, pidiendo apoyo y dejando claro a la otra parte por qué es de su mejor interés venir junto con usted para el recorrido. Cuando usted se lanza, está básicamente diciendo a alguien, ‘necesito sus recursos para hacer que mi idea acontezc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8337-4060-4D9D-911A-DA7952DC7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43000" y="395280"/>
            <a:ext cx="2557440" cy="1919160"/>
          </a:xfrm>
          <a:prstGeom prst="rect">
            <a:avLst/>
          </a:prstGeom>
          <a:ln w="0">
            <a:noFill/>
          </a:ln>
        </p:spPr>
      </p:sp>
      <p:sp>
        <p:nvSpPr>
          <p:cNvPr id="191" name="PlaceHolder 2"/>
          <p:cNvSpPr>
            <a:spLocks noGrp="1"/>
          </p:cNvSpPr>
          <p:nvPr>
            <p:ph type="body"/>
          </p:nvPr>
        </p:nvSpPr>
        <p:spPr>
          <a:xfrm>
            <a:off x="685800" y="233964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0450-0EF1-4932-9036-0CCC518A0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914480" y="539640"/>
            <a:ext cx="2940120" cy="2206800"/>
          </a:xfrm>
          <a:prstGeom prst="rect">
            <a:avLst/>
          </a:prstGeom>
          <a:ln w="0">
            <a:noFill/>
          </a:ln>
        </p:spPr>
      </p:sp>
      <p:sp>
        <p:nvSpPr>
          <p:cNvPr id="194"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algunas de las habilidades de liderazgo que ha observado en las mujeres líderes que usted cono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uál es por lo menos una de esas habilidades que necesita desarrollarla por usted mism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Qué habilidades de liderazgo le han dicho que usted tien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BA8A-FCA5-4EBB-8E92-C54215F9B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58920" y="395280"/>
            <a:ext cx="2367000" cy="1774800"/>
          </a:xfrm>
          <a:prstGeom prst="rect">
            <a:avLst/>
          </a:prstGeom>
          <a:ln w="0">
            <a:noFill/>
          </a:ln>
        </p:spPr>
      </p:sp>
      <p:sp>
        <p:nvSpPr>
          <p:cNvPr id="197" name="PlaceHolder 2"/>
          <p:cNvSpPr>
            <a:spLocks noGrp="1"/>
          </p:cNvSpPr>
          <p:nvPr>
            <p:ph type="body"/>
          </p:nvPr>
        </p:nvSpPr>
        <p:spPr>
          <a:xfrm>
            <a:off x="685440" y="2268360"/>
            <a:ext cx="5622840" cy="6118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5:</a:t>
            </a:r>
            <a:r>
              <a:rPr b="0" lang="en-US" sz="1200" spc="-1" strike="noStrike">
                <a:solidFill>
                  <a:srgbClr val="000000"/>
                </a:solidFill>
                <a:latin typeface="Garamond"/>
              </a:rPr>
              <a:t> </a:t>
            </a:r>
            <a:r>
              <a:rPr b="1" lang="en-US" sz="1200" spc="-1" strike="noStrike">
                <a:solidFill>
                  <a:srgbClr val="000000"/>
                </a:solidFill>
                <a:latin typeface="Garamond"/>
              </a:rPr>
              <a:t>MANTENGA SUS OJOS Y SUS OÍDOS ABIERTOS PARA EVITAR CONFLICTOS, GENERALMENTE CON OTRAS MUJ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Siempre y cuando que las personas interactúen en estos trasfondos, ideas, puntos de vista, enfoques, sentimientos, agendas, prioridades y metodologías, están obligadas a chocar. El líder no puede dejar estos asuntos sin resolver, porque si se permite que persistan, estos problemas serán devastadores, particularmente para una líder. Esto es definitivamente un área donde la habilidad y el carácter de una líder son puestos a prueb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sólo recientemente han sido invitadas al liderazgo, muchas no esperan cometer los errores de sus contrapartes. Entonces, el consejo es mantener los ojos y los oídos abiertos para evitar muchos conflictos potenciales como sea posible. También, desarrollar la habilidad de resolver los conflictos en forma oportuna y no permitir que ningún problema salga sin resolver, especialmente en lo que se refiere a otras mujeres. Las mujeres pueden ser sus más grandes defensoras como también sus mayores críticos, cuando el cuadro gi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hemos oído decir que los líderes deben elegir sus montañas; es decir, decidir entre los asuntos que tendrán que luchar hasta el final y los que se superarán por sí mismos. En una resolución de conflictos conocemos que lo último en como evitarlos. Algunas veces es difícil decir si un problema es realmente una montaña (un gran desafío) o un grano de arena (un reto pequeño). Cottrell y Harvey (p.65) nos recuerdan que ignorar un grano de arena no hará que desaparezca, sino que continuará recibiendo más y más, y si lo ignora un tiempo suficiente, con el tiempo se convertirá en una montañ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los sugieren que el siguiente concepto de grano de arena a montañas, el cual se aplica a muchas situaciones, debe ser un conflicto interpersonal entre dos miembros del equipo o una simple falta de comunicación. Tengan en cuenta que estas cuestiones tienen por lo menos dos cosas en comú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Todos ellos impactan negativamente en las personas y en el desempeño del equipo en general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n vez de arreglarse entre si, ellos aumentan rápidamente en el tiempo.</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55CD-577C-49B0-A635-0C116DD7C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0480" y="468360"/>
            <a:ext cx="2940120" cy="2206440"/>
          </a:xfrm>
          <a:prstGeom prst="rect">
            <a:avLst/>
          </a:prstGeom>
          <a:ln w="0">
            <a:noFill/>
          </a:ln>
        </p:spPr>
      </p:sp>
      <p:sp>
        <p:nvSpPr>
          <p:cNvPr id="200"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849E-E732-4960-A5AD-D8810CAD9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225520" y="324000"/>
            <a:ext cx="2460960" cy="1846080"/>
          </a:xfrm>
          <a:prstGeom prst="rect">
            <a:avLst/>
          </a:prstGeom>
          <a:ln w="0">
            <a:noFill/>
          </a:ln>
        </p:spPr>
      </p:sp>
      <p:sp>
        <p:nvSpPr>
          <p:cNvPr id="149"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1C37-9C6A-473C-95DE-CE55E2054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220840" y="539640"/>
            <a:ext cx="2560680" cy="1919520"/>
          </a:xfrm>
          <a:prstGeom prst="rect">
            <a:avLst/>
          </a:prstGeom>
          <a:ln w="0">
            <a:noFill/>
          </a:ln>
        </p:spPr>
      </p:sp>
      <p:sp>
        <p:nvSpPr>
          <p:cNvPr id="203" name="PlaceHolder 2"/>
          <p:cNvSpPr>
            <a:spLocks noGrp="1"/>
          </p:cNvSpPr>
          <p:nvPr>
            <p:ph type="body"/>
          </p:nvPr>
        </p:nvSpPr>
        <p:spPr>
          <a:xfrm>
            <a:off x="685800" y="2556000"/>
            <a:ext cx="5486400" cy="547056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I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ace algún tiempo la declaración fue hecha en círculos administrativos, “las mujeres son sus peores enemigos”.  ¿Qué significa esta declaración para uste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 cree que es más fácil para las mujeres apoyar a líderes mujeres hoy? ¿Por qué? ¿Por qué no?</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33B0-572F-4128-87FC-75C2249CE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04920" y="324000"/>
            <a:ext cx="2559240" cy="1919160"/>
          </a:xfrm>
          <a:prstGeom prst="rect">
            <a:avLst/>
          </a:prstGeom>
          <a:ln w="0">
            <a:noFill/>
          </a:ln>
        </p:spPr>
      </p:sp>
      <p:sp>
        <p:nvSpPr>
          <p:cNvPr id="206" name="PlaceHolder 2"/>
          <p:cNvSpPr>
            <a:spLocks noGrp="1"/>
          </p:cNvSpPr>
          <p:nvPr>
            <p:ph type="body"/>
          </p:nvPr>
        </p:nvSpPr>
        <p:spPr>
          <a:xfrm>
            <a:off x="549360" y="2340000"/>
            <a:ext cx="59040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000000"/>
                </a:solidFill>
                <a:uFillTx/>
                <a:latin typeface="Calibri"/>
              </a:rPr>
              <a:t>ESTRATEGIA 6</a:t>
            </a:r>
            <a:r>
              <a:rPr b="1" lang="es-PE" sz="1200" spc="-1" strike="noStrike">
                <a:solidFill>
                  <a:srgbClr val="000000"/>
                </a:solidFill>
                <a:latin typeface="Calibri"/>
              </a:rPr>
              <a:t>: IDENTIFIQUE LOS OBSTÁCULOS QUE PUEDEN PREVENIRLE DE CONSEGUIR EL ÉXI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Uno de los obstáculos más evidentes es el </a:t>
            </a:r>
            <a:r>
              <a:rPr b="1" lang="es-ES" sz="1200" spc="-1" strike="noStrike">
                <a:solidFill>
                  <a:srgbClr val="000000"/>
                </a:solidFill>
                <a:latin typeface="Calibri"/>
              </a:rPr>
              <a:t>MIED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Otro obstáculo tiene que ver con la </a:t>
            </a:r>
            <a:r>
              <a:rPr b="1" lang="es-ES" sz="1200" spc="-1" strike="noStrike">
                <a:solidFill>
                  <a:srgbClr val="000000"/>
                </a:solidFill>
                <a:latin typeface="Calibri"/>
              </a:rPr>
              <a:t>RESPONSABILIDAD.</a:t>
            </a:r>
            <a:r>
              <a:rPr b="0" lang="es-ES" sz="1200" spc="-1" strike="noStrike">
                <a:solidFill>
                  <a:srgbClr val="000000"/>
                </a:solidFill>
                <a:latin typeface="Calibri"/>
              </a:rPr>
              <a:t>  En otras palabras, el reconocimiento de que “los problemas se solucionan aquí”, porque no hay nadie a quien echar la culpa si algo sale mal. Cuando la responsabilidad llega a ser un obstáculo, puede ser que no haya tiempo en sus ya repletas agendas profesionales y personales, para añadir esta tarea de liderazg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El tercer obstáculo puede ser </a:t>
            </a:r>
            <a:r>
              <a:rPr b="1" lang="es-ES" sz="1200" spc="-1" strike="noStrike">
                <a:solidFill>
                  <a:srgbClr val="000000"/>
                </a:solidFill>
                <a:latin typeface="Calibri"/>
              </a:rPr>
              <a:t>FALTA DE CORAJE</a:t>
            </a:r>
            <a:r>
              <a:rPr b="0" lang="es-ES" sz="1200" spc="-1" strike="noStrike">
                <a:solidFill>
                  <a:srgbClr val="000000"/>
                </a:solidFill>
                <a:latin typeface="Calibri"/>
              </a:rPr>
              <a:t>.  Como una líder usted necesita coraje para hacer lo que debe hacerse en el momento en que se debe hacer. Cottrell (pp. 8, 9) define el coraje como teniendo agallas, nervios y corazón para hacer las cosas que fomentan y apoyan el progreso. Para llegar a ser una líder valiente, debe tener un compromiso innegable, indiscutible y firme para hacer lo mejor que se puede hacer. Él concluye que la verdadera medida de su liderazgo es la habilidad de verse en el espejo y conocer que tuvo el coraje de hacer lo que sentía que era lo correc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 cuarto obstáculo puede ser el </a:t>
            </a:r>
            <a:r>
              <a:rPr b="1" lang="es-ES" sz="1200" spc="-1" strike="noStrike">
                <a:solidFill>
                  <a:srgbClr val="000000"/>
                </a:solidFill>
                <a:latin typeface="Calibri"/>
              </a:rPr>
              <a:t>EQUIPAJE PERSONAL</a:t>
            </a:r>
            <a:r>
              <a:rPr b="0" lang="es-ES" sz="1200" spc="-1" strike="noStrike">
                <a:solidFill>
                  <a:srgbClr val="000000"/>
                </a:solidFill>
                <a:latin typeface="Calibri"/>
              </a:rPr>
              <a:t>. Muchas mujeres han sido incapaces de dar un paso adelante en papeles de liderazgo debido a las circunstancias que tuvieron en su pasado. Debemos darnos cuenta que todos tenemos un equipaje del pasado que desearíamos que no estuviera allí. Este fue el equipaje que nos llevó a la pileta bautismal o a la orden de humildad. Si permitimos que estas cosas continúen impidiéndonos de seguir adelante, nunca llegaremos a ser las líderes eficaces que Dios quiere que seam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quipaje es como los pesos que el autor de Hebreos explica que vamos a dejar a un lado (Hebreos 12:1-2). Nunca vemos a velocistas corriendo por todo el terreno con pesos pesados a sus espaldas. No necesitamos tener un doctorado para saber que correr con pesos nos desacelera.  La carrera no puede ser corrida y ganada de esta manera.  Debemos ocuparnos de nuestro equipaje personal de modo que nos permita librarnos de él y no ser disuadidos por el pasado, aún cuando continuamente seamos señalados por los demás. El pasado ocurrió en el pasado y si permitimos quedarnos allí, nunca avanzaremos. Busque maneras de aliviarse usted mismo de su equipaje personal y emocional. Cuanto más rápido lo haga, más rápido podrá ascender por la escalera del liderazgo.</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ECF3-AD1E-4CC0-97AB-8F558F5B4A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60640" y="395280"/>
            <a:ext cx="2560680" cy="1919160"/>
          </a:xfrm>
          <a:prstGeom prst="rect">
            <a:avLst/>
          </a:prstGeom>
          <a:ln w="0">
            <a:noFill/>
          </a:ln>
        </p:spPr>
      </p:sp>
      <p:sp>
        <p:nvSpPr>
          <p:cNvPr id="209" name="PlaceHolder 2"/>
          <p:cNvSpPr>
            <a:spLocks noGrp="1"/>
          </p:cNvSpPr>
          <p:nvPr>
            <p:ph type="body"/>
          </p:nvPr>
        </p:nvSpPr>
        <p:spPr>
          <a:xfrm>
            <a:off x="685800" y="2410920"/>
            <a:ext cx="5486400" cy="583092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áles son algunos de los obstáculos no personales que ustedes creen que tendrán que superar? (Mencione obstáculos personales también, si usted quie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es creen que las mujeres tienen que saltar más obstáculos en el liderazgo que los homb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Explique por qué usted cree o no cree que las mujeres enfrentan más obstácu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6144-324B-46CE-963A-1A887F809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3720" y="324000"/>
            <a:ext cx="2462040" cy="1846080"/>
          </a:xfrm>
          <a:prstGeom prst="rect">
            <a:avLst/>
          </a:prstGeom>
          <a:ln w="0">
            <a:noFill/>
          </a:ln>
        </p:spPr>
      </p:sp>
      <p:sp>
        <p:nvSpPr>
          <p:cNvPr id="212"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7</a:t>
            </a:r>
            <a:r>
              <a:rPr b="1" lang="en-US" sz="1200" spc="-1" strike="noStrike">
                <a:solidFill>
                  <a:srgbClr val="000000"/>
                </a:solidFill>
                <a:latin typeface="Garamond"/>
              </a:rPr>
              <a:t>:  IDENTIFIQUE ESTRATEGIAS PRÁCTICAS PARA SUPERAR OBSTÁCULOS EN EL LIDERAZ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ede ser que uno de los pasos que ha identificado para llegar a ser una líder más eficaz es tomar un curso, hacer algún estudio espiritual, leer más libros sobre el tema, asistir a seminarios, etc. Las mujeres en el nivel de iglesia local, que quieren participar en el servicio, puede ser que no tengan idea de cómo llevar a cabo un estudio bíblico por ejemplo. Tal vez un pequeño paso podría ser invitar a un grupo de mujeres a su hogar y comenzar a estudiar juntas allí.  Luego, cuando se siente lo suficientemente cómoda comparezca ante las mujeres y presente un tema determinado, esto le permitirá más tarde, pararse delante de la membresía de la iglesia y conducir un tema. Con esta experiencia usted también puede incluso pararse detrás del púlpito algún d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mujeres le dirán que su primera experiencia en el liderazgo fue leer la Biblia en voz alta en su casa. Luego presentaron resúmenes de su estudio y lecturas en voz alta a los miembros de la familia. Ahora algunas de esas mujeres se presentan en campañas de evangelismo público. Todo esto comenzó dando pasos pequeños. Incluso un paso de bebé es bueno. Sólo necesita movers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9B09-11ED-4913-AB87-8A92A415F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3720" y="395280"/>
            <a:ext cx="2460600" cy="1846440"/>
          </a:xfrm>
          <a:prstGeom prst="rect">
            <a:avLst/>
          </a:prstGeom>
          <a:ln w="0">
            <a:noFill/>
          </a:ln>
        </p:spPr>
      </p:sp>
      <p:sp>
        <p:nvSpPr>
          <p:cNvPr id="215" name="PlaceHolder 2"/>
          <p:cNvSpPr>
            <a:spLocks noGrp="1"/>
          </p:cNvSpPr>
          <p:nvPr>
            <p:ph type="body"/>
          </p:nvPr>
        </p:nvSpPr>
        <p:spPr>
          <a:xfrm>
            <a:off x="685800" y="2340000"/>
            <a:ext cx="5486400" cy="5757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En los obstáculos mencionados en la Estrategia # 7, identifique maneras como las mujeres pueden superar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omparta cómo usted superó por lo menos un obstáculo person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Cuáles son algunos pasos pequeños que usted puede recomendar a las mujeres que quieren moverse del punto A al punto B?</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F68A-B5A7-47A1-AEAE-B9D14AA72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74760" y="611280"/>
            <a:ext cx="2365560" cy="1774800"/>
          </a:xfrm>
          <a:prstGeom prst="rect">
            <a:avLst/>
          </a:prstGeom>
          <a:ln w="0">
            <a:noFill/>
          </a:ln>
        </p:spPr>
      </p:sp>
      <p:sp>
        <p:nvSpPr>
          <p:cNvPr id="218" name="PlaceHolder 2"/>
          <p:cNvSpPr>
            <a:spLocks noGrp="1"/>
          </p:cNvSpPr>
          <p:nvPr>
            <p:ph type="body"/>
          </p:nvPr>
        </p:nvSpPr>
        <p:spPr>
          <a:xfrm>
            <a:off x="685800" y="248436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8</a:t>
            </a:r>
            <a:r>
              <a:rPr b="1" lang="en-US" sz="1200" spc="-1" strike="noStrike">
                <a:solidFill>
                  <a:srgbClr val="000000"/>
                </a:solidFill>
                <a:latin typeface="Garamond"/>
              </a:rPr>
              <a:t>: DIRIJA CON CONVICCIÓN, LIMITANDO EXPRESIONES DE EMOC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tre los dos extremos de pasivo y agresivo está el enfoque administrativo ganador eficaz, conocido como el estilo asertivo. Se trata de un enfoque equilibrado que le asegura que manejará a la gente, conseguirá las cosas hechas y comunicará – todo en el mismo nivel, dirigido de manera segu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líderes deben mantener sus emociones bajo control. El llorar o aparecer vulnerable algunas veces, serán vistos como falta de poder y autoridad. Por otro lado, mostrar muy poca emoción, puede ser interpretado como si hubiera perdido toda la feminidad. Generalmente, un poquito puede llegar muy lejos. Entonces usted puede apostar por el negoc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956C-A7F0-4E43-9C07-B726DE3BB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247840" y="468360"/>
            <a:ext cx="2273400" cy="1704960"/>
          </a:xfrm>
          <a:prstGeom prst="rect">
            <a:avLst/>
          </a:prstGeom>
          <a:ln w="0">
            <a:noFill/>
          </a:ln>
        </p:spPr>
      </p:sp>
      <p:sp>
        <p:nvSpPr>
          <p:cNvPr id="221" name="PlaceHolder 2"/>
          <p:cNvSpPr>
            <a:spLocks noGrp="1"/>
          </p:cNvSpPr>
          <p:nvPr>
            <p:ph type="body"/>
          </p:nvPr>
        </p:nvSpPr>
        <p:spPr>
          <a:xfrm>
            <a:off x="685800" y="2268360"/>
            <a:ext cx="5486400" cy="568656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ubo momentos en su experiencia cuando usted se sintió que estaba siendo fuerte y los otros pensaron que estaba siendo agresiva y hosti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é puede hacer una mujer para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Qué significa para una líder,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2C91-FE4D-46AF-AD85-82080B866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95480" y="324000"/>
            <a:ext cx="2558880" cy="1919160"/>
          </a:xfrm>
          <a:prstGeom prst="rect">
            <a:avLst/>
          </a:prstGeom>
          <a:ln w="0">
            <a:noFill/>
          </a:ln>
        </p:spPr>
      </p:sp>
      <p:sp>
        <p:nvSpPr>
          <p:cNvPr id="224" name="PlaceHolder 2"/>
          <p:cNvSpPr>
            <a:spLocks noGrp="1"/>
          </p:cNvSpPr>
          <p:nvPr>
            <p:ph type="body"/>
          </p:nvPr>
        </p:nvSpPr>
        <p:spPr>
          <a:xfrm>
            <a:off x="685800" y="2268360"/>
            <a:ext cx="5486400" cy="6189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STRATEGIA 9: SEA ABIERTA A LAS OPORTUNIDADES DE PROMOCIÓN</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0DA5-4E96-41C0-A6FB-44EDC6F67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47760" y="395280"/>
            <a:ext cx="2460600" cy="1846440"/>
          </a:xfrm>
          <a:prstGeom prst="rect">
            <a:avLst/>
          </a:prstGeom>
          <a:ln w="0">
            <a:noFill/>
          </a:ln>
        </p:spPr>
      </p:sp>
      <p:sp>
        <p:nvSpPr>
          <p:cNvPr id="227" name="PlaceHolder 2"/>
          <p:cNvSpPr>
            <a:spLocks noGrp="1"/>
          </p:cNvSpPr>
          <p:nvPr>
            <p:ph type="body"/>
          </p:nvPr>
        </p:nvSpPr>
        <p:spPr>
          <a:xfrm>
            <a:off x="685800" y="2268360"/>
            <a:ext cx="5486400" cy="5973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ando mira su vida pasada ¿hubieron oportunidades que usted dejó pasa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ómo puede diferenciar una oferta de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Por qué es importante no dejar pasar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15D2-AB84-4056-815B-91F9A0B89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33720" y="468360"/>
            <a:ext cx="2367000" cy="1774800"/>
          </a:xfrm>
          <a:prstGeom prst="rect">
            <a:avLst/>
          </a:prstGeom>
          <a:ln w="0">
            <a:noFill/>
          </a:ln>
        </p:spPr>
      </p:sp>
      <p:sp>
        <p:nvSpPr>
          <p:cNvPr id="230" name="PlaceHolder 2"/>
          <p:cNvSpPr>
            <a:spLocks noGrp="1"/>
          </p:cNvSpPr>
          <p:nvPr>
            <p:ph type="body"/>
          </p:nvPr>
        </p:nvSpPr>
        <p:spPr>
          <a:xfrm>
            <a:off x="685800" y="234000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10</a:t>
            </a:r>
            <a:r>
              <a:rPr b="1" lang="en-US" sz="1200" spc="-1" strike="noStrike">
                <a:solidFill>
                  <a:srgbClr val="000000"/>
                </a:solidFill>
                <a:latin typeface="Garamond"/>
              </a:rPr>
              <a:t>: ATRÉVASE A ASUMIR RIES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líderes eficaces tienen muchas características en común. Las dos más importantes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llos tienen el coraje de tomar decisiones difíciles, cuando es necesario realizar decisiones difíciles,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stán dispuestos a hacer sacrificios personales en beneficio de otr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 historia de la Reina Elizabeth de Inglaterra, se afirma que ella siempre se pone al servicio de la Corona antes que de sus propios deseos personales. Muchos de los líderes eficaces en toda la historia han hecho lo mismo. Han hecho decisiones difíciles porque creían que era correcto, a pesar del curso de sus antecesor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B0BB-D58A-494D-9EFE-CAE8D2A85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935000" y="250920"/>
            <a:ext cx="2752920" cy="2063520"/>
          </a:xfrm>
          <a:prstGeom prst="rect">
            <a:avLst/>
          </a:prstGeom>
          <a:ln w="0">
            <a:noFill/>
          </a:ln>
        </p:spPr>
      </p:sp>
      <p:sp>
        <p:nvSpPr>
          <p:cNvPr id="152" name="PlaceHolder 2"/>
          <p:cNvSpPr>
            <a:spLocks noGrp="1"/>
          </p:cNvSpPr>
          <p:nvPr>
            <p:ph type="body"/>
          </p:nvPr>
        </p:nvSpPr>
        <p:spPr>
          <a:xfrm>
            <a:off x="685800" y="2339640"/>
            <a:ext cx="5486400" cy="6118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alibri"/>
              </a:rPr>
              <a:t>ESTRATEGIA 1</a:t>
            </a:r>
            <a:r>
              <a:rPr b="1" lang="es-ES" sz="1200" spc="-1" strike="noStrike">
                <a:solidFill>
                  <a:srgbClr val="000000"/>
                </a:solidFill>
                <a:latin typeface="Calibri"/>
              </a:rPr>
              <a:t>: Creer que Dios también llama a las mujeres para ser líd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formamos creencias sobre el mundo, sobre nosotros mismos y sus interacciones en el mundo. Esas creencias crean una intrincada red denominada “puntos de vista” o “creencias ventana” mediante la cual vemos eventos y personas. No solamente creamos nuestra propia realidad, sino que también nos aferramos a ella, porque otras personas, muchas de las cuales conocemos, experimentan realidades similares. Cuando hay consenso, nos aferramos a viejas realidades, no solamente porque los otros apoyan esa realidad, sino también porque tenemos miedo de que los otros piensen que estamos actuando fuera de las realidades o normas. Esta es una de las razones que muchas mujeres han determinado dentro de sí mismas, lo que pueden y no pueden 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líderes dirán que sus más grandes oponentes han sido mujeres quienes no creen que el liderazgo es un don de Dios dado a las mujeres. Por lo tanto, el primer obstáculo para las mujeres en general y específicamente para aquellas que han sido llamadas para servir, es la creencia de que las mujeres no pueden servir a la iglesia o a sus organizaciones como líderes, que el liderazgo es un don sólo asignado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CA3E-FF99-4B38-8292-39B5111E44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28680" y="826920"/>
            <a:ext cx="2654280" cy="1990800"/>
          </a:xfrm>
          <a:prstGeom prst="rect">
            <a:avLst/>
          </a:prstGeom>
          <a:ln w="0">
            <a:noFill/>
          </a:ln>
        </p:spPr>
      </p:sp>
      <p:sp>
        <p:nvSpPr>
          <p:cNvPr id="23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D547-9129-4B76-8BDA-99857B3BA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51000" y="324000"/>
            <a:ext cx="2559240" cy="1919160"/>
          </a:xfrm>
          <a:prstGeom prst="rect">
            <a:avLst/>
          </a:prstGeom>
          <a:ln w="0">
            <a:noFill/>
          </a:ln>
        </p:spPr>
      </p:sp>
      <p:sp>
        <p:nvSpPr>
          <p:cNvPr id="236"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ste Seminario hemos compartido diez estrategias que son útiles a las mujeres a quienes Dios ha llamado al servicio del liderazgo. Ellos s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ree que Dios también llama a las mujeres para ser líd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írese como una de aquellas líderes que Dios ha llama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esarrolle las habilidades de liderazgo que Dios le ha concedi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Lidere como una mujer y no como un homb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antenga sus ojos y sus oídos abiertos para evitar conflictos, generalmente con otras muj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los obstáculos que pueden prevenirle de conseguir el éxi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estrategias prácticas para superar obstáculos en el liderazg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irija con convicción, limitando expresiones de e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Sea abierta a las oportunidades de pro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Atrévase a asumir riesgo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0E13-3173-4C97-B957-AF2EE444B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33640" y="826920"/>
            <a:ext cx="2846160" cy="2135520"/>
          </a:xfrm>
          <a:prstGeom prst="rect">
            <a:avLst/>
          </a:prstGeom>
          <a:ln w="0">
            <a:noFill/>
          </a:ln>
        </p:spPr>
      </p:sp>
      <p:sp>
        <p:nvSpPr>
          <p:cNvPr id="239" name="PlaceHolder 2"/>
          <p:cNvSpPr>
            <a:spLocks noGrp="1"/>
          </p:cNvSpPr>
          <p:nvPr>
            <p:ph type="body"/>
          </p:nvPr>
        </p:nvSpPr>
        <p:spPr>
          <a:xfrm>
            <a:off x="685800" y="3058920"/>
            <a:ext cx="5486400" cy="539892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Nombre y describa brevemente por lo menos una mujer en la Biblia que tuvo el coraje de hacer decisiones difícil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Nombre y describa brevemente por lo menos una mujer de los tiempos modernos que es aclamada como una que ha hechos sacrificios personales para el beneficio de los demá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coraj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063F-E7D5-4926-AFC5-FB3AD9517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20960" y="324000"/>
            <a:ext cx="2943000" cy="2206440"/>
          </a:xfrm>
          <a:prstGeom prst="rect">
            <a:avLst/>
          </a:prstGeom>
          <a:ln w="0">
            <a:noFill/>
          </a:ln>
        </p:spPr>
      </p:sp>
      <p:sp>
        <p:nvSpPr>
          <p:cNvPr id="242"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86F5-9D3D-49C0-8BEE-86760F8DA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163600" y="539640"/>
            <a:ext cx="2367000" cy="1774800"/>
          </a:xfrm>
          <a:prstGeom prst="rect">
            <a:avLst/>
          </a:prstGeom>
          <a:ln w="0">
            <a:noFill/>
          </a:ln>
        </p:spPr>
      </p:sp>
      <p:sp>
        <p:nvSpPr>
          <p:cNvPr id="155" name="PlaceHolder 2"/>
          <p:cNvSpPr>
            <a:spLocks noGrp="1"/>
          </p:cNvSpPr>
          <p:nvPr>
            <p:ph type="body"/>
          </p:nvPr>
        </p:nvSpPr>
        <p:spPr>
          <a:xfrm>
            <a:off x="685440" y="2339640"/>
            <a:ext cx="5551560" cy="6118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or ejemplo:</a:t>
            </a:r>
            <a:endParaRPr b="0" lang="en-US" sz="1200" spc="-1" strike="noStrike">
              <a:solidFill>
                <a:srgbClr val="000000"/>
              </a:solidFill>
              <a:latin typeface="Calibri"/>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0" lang="es-ES" sz="1200" spc="-1" strike="noStrike">
                <a:solidFill>
                  <a:srgbClr val="000000"/>
                </a:solidFill>
                <a:latin typeface="Calibri"/>
              </a:rPr>
              <a:t>Él ignoró rituales y leyes relacionadas a la impureza, tales como en el caso de la mujer a quién Él curó de hemorragia menstrual (Marcos 5:25-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B15E-DF66-49FF-9755-41B9912C6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828800" y="395280"/>
            <a:ext cx="2749680" cy="2063880"/>
          </a:xfrm>
          <a:prstGeom prst="rect">
            <a:avLst/>
          </a:prstGeom>
          <a:ln w="0">
            <a:noFill/>
          </a:ln>
        </p:spPr>
      </p:sp>
      <p:sp>
        <p:nvSpPr>
          <p:cNvPr id="15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Él aceptó a las mujeres en su círculo íntimo, de acuerdo a Lucas, quién describe las muchas mujeres partidarias que seguían a Cristo (Lucas 8: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estuvieron presentes en su crucifixión (Mateo 27:55-5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apareció a una mujer después de su resurrección, demostrando que las mujeres podrían ser testigos creíbles tambié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expresó gran preocupación por las viudas (Lucas 4:26; 7:11; 18:1; 20:47; y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Trató a las parejas casadas por igual en asuntos que concernían al divorcio (Marcos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4833-239E-4A63-86A8-E9CA420C7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984320" y="826920"/>
            <a:ext cx="2654280" cy="1990800"/>
          </a:xfrm>
          <a:prstGeom prst="rect">
            <a:avLst/>
          </a:prstGeom>
          <a:ln w="0">
            <a:noFill/>
          </a:ln>
        </p:spPr>
      </p:sp>
      <p:sp>
        <p:nvSpPr>
          <p:cNvPr id="16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s historias con frecuencia incluyen a mujeres como también a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Simeón y Ana (Lucas 2:25-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La oveja perdida. La mujer y la moneda perdida y el Hijo Prodigo (Lucas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c)  Ananías y Safira (Hechos 5:1-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d)  Lidia y la conversión del carcelero (Hechos 16:14-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  Dionicio y Dámaris (Hechos 17: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una líder, usted puede encontrar que algunas de las mujeres que estará preparando, aún es escéptica a que las mujeres estén en puestos de liderazgo. Usted podrá identificarlas por sus conversaciones, por sus opciones a asistir a los seminarios organizados por hombres, o de otras maneras.  Usted debe hacer lo mejor posible para ayudar a estas mujeres a crecer, compartiendo la mayor información posible sobre las mujeres en el liderazgo y mediante el intercambio de una lista de recursos y/o referencias que examinen todos los asuntos desde una perspectiva teológic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6986-8EC7-44DB-9421-854D7E4F9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319480" y="611280"/>
            <a:ext cx="2174760" cy="1630440"/>
          </a:xfrm>
          <a:prstGeom prst="rect">
            <a:avLst/>
          </a:prstGeom>
          <a:ln w="0">
            <a:noFill/>
          </a:ln>
        </p:spPr>
      </p:sp>
      <p:sp>
        <p:nvSpPr>
          <p:cNvPr id="164" name="PlaceHolder 2"/>
          <p:cNvSpPr>
            <a:spLocks noGrp="1"/>
          </p:cNvSpPr>
          <p:nvPr>
            <p:ph type="body"/>
          </p:nvPr>
        </p:nvSpPr>
        <p:spPr>
          <a:xfrm>
            <a:off x="685800" y="2268360"/>
            <a:ext cx="5486400" cy="561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enseñanza de Priscilla sobre Apodos, muestra que las mujeres funcionaban como profesoras de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be también entenderse de que hay mujeres quienes nunca serán convencidas de que a las mujeres también se les ha dado los dones de liderazgo. Dé a esas mujeres una lista de publicaciones adicionales para que lean en su tiempo libre, para que les sirva de ayuda en el futuro.</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CF70-D72A-4E9D-BB7C-BBEFD3456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368440" y="395280"/>
            <a:ext cx="2078280" cy="1558800"/>
          </a:xfrm>
          <a:prstGeom prst="rect">
            <a:avLst/>
          </a:prstGeom>
          <a:ln w="0">
            <a:noFill/>
          </a:ln>
        </p:spPr>
      </p:sp>
      <p:sp>
        <p:nvSpPr>
          <p:cNvPr id="167" name="PlaceHolder 2"/>
          <p:cNvSpPr>
            <a:spLocks noGrp="1"/>
          </p:cNvSpPr>
          <p:nvPr>
            <p:ph type="body"/>
          </p:nvPr>
        </p:nvSpPr>
        <p:spPr>
          <a:xfrm>
            <a:off x="685800" y="2050920"/>
            <a:ext cx="5486400" cy="618984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Usted cree que Dios llama a las mujeres para que sean líderes? ¿Ha estado usted siempre convencida de es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iénes son algunas de las mujeres líderes tanto antiguas como modernas que son sus mode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Hay roles de liderazgo que no son adecuados para las mujeres cristiana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66A5-75BB-4B8D-8BE8-41D32A83D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349360" y="684360"/>
            <a:ext cx="2270160" cy="1701720"/>
          </a:xfrm>
          <a:prstGeom prst="rect">
            <a:avLst/>
          </a:prstGeom>
          <a:ln w="0">
            <a:noFill/>
          </a:ln>
        </p:spPr>
      </p:sp>
      <p:sp>
        <p:nvSpPr>
          <p:cNvPr id="170" name="PlaceHolder 2"/>
          <p:cNvSpPr>
            <a:spLocks noGrp="1"/>
          </p:cNvSpPr>
          <p:nvPr>
            <p:ph type="body"/>
          </p:nvPr>
        </p:nvSpPr>
        <p:spPr>
          <a:xfrm>
            <a:off x="685800" y="2411280"/>
            <a:ext cx="569592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2:</a:t>
            </a:r>
            <a:r>
              <a:rPr b="1" lang="en-US" sz="1200" spc="-1" strike="noStrike">
                <a:solidFill>
                  <a:srgbClr val="000000"/>
                </a:solidFill>
                <a:latin typeface="Garamond"/>
              </a:rPr>
              <a:t>  MÍRESE COMO UNA DE AQUELLAS LÍDERS QUE DIOS HA LLAMA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sted no quiere creer que Dios la está llamando para atender las necesidades de la época. Así como Esther se dio cuenta de lo que fue puesto en su conocimiento, que estaba allí en el Reino Persa para un momento como este, “las mujeres deben de darse cuenta que Dios ha levantado a las mujeres a través del tiempo, para atender las necesidades de los tiempos. Si usted es una de tales mujeres que Él está llamando hoy, siéntase bendecida. Así como Dios no dejó a muchas otras, Él no la dejará sola hacer la tarea. Él solamente necesita manos humanas - manos femeninas, para hacer el trabajo a mano, sin juegos de palabras previs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17A10-61C1-4EDF-9E49-FFEDC4C75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70D26-EA5C-4C91-BC95-E80122BD7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068E7-7D51-4D24-9750-7EFE0FCD9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99AB3-E320-47F6-A144-D3C837140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E7C94-C089-4E50-832E-80FD7707A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A74C6-0AE1-40DB-AE94-5FB855F59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93DAB-ECF6-4AB4-BE2D-0498B031B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3FA30-1DFC-4849-858E-5CD6C0E52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EF272-0F28-4BCD-BB61-2F009A121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32CD4-C8AC-4770-9D55-902D15847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63600-1CED-4C17-888F-7AF4A6A42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40613-154D-447E-8820-50A48ED6C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F836-D388-4707-A07E-70086C037BE7}"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5" descr="lider 01"/>
          <p:cNvPicPr/>
          <p:nvPr/>
        </p:nvPicPr>
        <p:blipFill>
          <a:blip r:embed="rId1"/>
          <a:stretch/>
        </p:blipFill>
        <p:spPr>
          <a:xfrm>
            <a:off x="0" y="0"/>
            <a:ext cx="9144000" cy="6858000"/>
          </a:xfrm>
          <a:prstGeom prst="rect">
            <a:avLst/>
          </a:prstGeom>
          <a:ln w="0">
            <a:noFill/>
          </a:ln>
        </p:spPr>
      </p:pic>
      <p:sp>
        <p:nvSpPr>
          <p:cNvPr id="51" name="Rectangle 8"/>
          <p:cNvSpPr/>
          <p:nvPr/>
        </p:nvSpPr>
        <p:spPr>
          <a:xfrm>
            <a:off x="1368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reparando lídere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ara el éxito</a:t>
            </a:r>
            <a:endParaRPr b="0" lang="en-US" sz="4400" spc="-1" strike="noStrike">
              <a:solidFill>
                <a:srgbClr val="000000"/>
              </a:solidFill>
              <a:latin typeface="Arial"/>
            </a:endParaRPr>
          </a:p>
        </p:txBody>
      </p:sp>
      <p:pic>
        <p:nvPicPr>
          <p:cNvPr id="52" name="Picture 10" descr="Logo300"/>
          <p:cNvPicPr/>
          <p:nvPr/>
        </p:nvPicPr>
        <p:blipFill>
          <a:blip r:embed="rId2"/>
          <a:stretch/>
        </p:blipFill>
        <p:spPr>
          <a:xfrm>
            <a:off x="8101080" y="4822920"/>
            <a:ext cx="718920" cy="492120"/>
          </a:xfrm>
          <a:prstGeom prst="rect">
            <a:avLst/>
          </a:prstGeom>
          <a:ln w="0">
            <a:noFill/>
          </a:ln>
        </p:spPr>
      </p:pic>
      <p:sp>
        <p:nvSpPr>
          <p:cNvPr id="53" name="Text Box 11"/>
          <p:cNvSpPr/>
          <p:nvPr/>
        </p:nvSpPr>
        <p:spPr>
          <a:xfrm>
            <a:off x="3276720" y="5877000"/>
            <a:ext cx="289872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Ministerio de la Muj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Certificación de Liderazg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Nivel </a:t>
            </a:r>
            <a:r>
              <a:rPr b="1" lang="es-ES" sz="1800" spc="-1" strike="noStrike">
                <a:solidFill>
                  <a:srgbClr val="ffffff"/>
                </a:solidFill>
                <a:latin typeface="Franklin Gothic Book"/>
              </a:rPr>
              <a:t>4</a:t>
            </a:r>
            <a:endParaRPr b="0" lang="en-US" sz="1800" spc="-1" strike="noStrike">
              <a:solidFill>
                <a:srgbClr val="000000"/>
              </a:solidFill>
              <a:latin typeface="Arial"/>
            </a:endParaRPr>
          </a:p>
        </p:txBody>
      </p:sp>
      <p:sp>
        <p:nvSpPr>
          <p:cNvPr id="54" name="Text Box 12"/>
          <p:cNvSpPr/>
          <p:nvPr/>
        </p:nvSpPr>
        <p:spPr>
          <a:xfrm>
            <a:off x="3644280" y="5408640"/>
            <a:ext cx="21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ranklin Gothic Book"/>
              </a:rPr>
              <a:t>Por:</a:t>
            </a:r>
            <a:r>
              <a:rPr b="1" lang="en-US" sz="2000" spc="-1" strike="noStrike">
                <a:solidFill>
                  <a:srgbClr val="ffffff"/>
                </a:solidFill>
                <a:latin typeface="Franklin Gothic Book"/>
              </a:rPr>
              <a:t> Rosa Ban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lider 03"/>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alibri"/>
              </a:rPr>
              <a:t>David Cottrell y Eric Harvey, en su libro </a:t>
            </a:r>
            <a:r>
              <a:rPr b="0" i="1" lang="es-ES" sz="2800" spc="-1" strike="noStrike" u="sng">
                <a:solidFill>
                  <a:srgbClr val="000000"/>
                </a:solidFill>
                <a:uFillTx/>
                <a:latin typeface="Calibri"/>
              </a:rPr>
              <a:t>Liderazgo Coraje</a:t>
            </a:r>
            <a:r>
              <a:rPr b="0" i="1" lang="es-ES" sz="28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lider 03"/>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200720" cy="619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el Señor la ha llamado para liderar, en vez de hacer la pregunta, “¿Por qué a mí Señor?”, piense “¿Por qué no yo?”. Recuerde que si Dios la está llamando, Él no la está llamando para que haga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lider 03"/>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Usted se ve como una mujer que Dios la ha llamado para liderar? Si es así ¿En qué área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una mujer saber que Dios la ha llamado para realizar cierta tarea?</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n cómoda usted se siente siguiendo a una mujer lí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lider 02"/>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622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3</a:t>
            </a:r>
            <a:r>
              <a:rPr b="1" lang="en-US" sz="2600" spc="-1" strike="noStrike">
                <a:solidFill>
                  <a:srgbClr val="ffffff"/>
                </a:solidFill>
                <a:latin typeface="Franklin Gothic Book"/>
              </a:rPr>
              <a:t>: DESARROLLE LAS HABILIDADES DE LIDERAZGO QUE DIOS LE HA CONCEDIDO</a:t>
            </a:r>
            <a:endParaRPr b="0" lang="en-US" sz="2600" spc="-1" strike="noStrike">
              <a:solidFill>
                <a:srgbClr val="000000"/>
              </a:solidFill>
              <a:latin typeface="Calibri"/>
            </a:endParaRPr>
          </a:p>
        </p:txBody>
      </p:sp>
      <p:sp>
        <p:nvSpPr>
          <p:cNvPr id="85" name="PlaceHolder 2"/>
          <p:cNvSpPr>
            <a:spLocks noGrp="1"/>
          </p:cNvSpPr>
          <p:nvPr>
            <p:ph/>
          </p:nvPr>
        </p:nvSpPr>
        <p:spPr>
          <a:xfrm>
            <a:off x="457200" y="2204640"/>
            <a:ext cx="8229600" cy="374508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lider 03"/>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áles son las habilidades de liderazgo que usted siente que ahora posee?</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usted continuará desarrollándolas para que sean usadas en el servicio de Dio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ómo está usando actualmente sus habilidades de lideraz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ider 02"/>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627280" y="188640"/>
            <a:ext cx="651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4:</a:t>
            </a:r>
            <a:r>
              <a:rPr b="1" lang="en-US" sz="2800" spc="-1" strike="noStrike">
                <a:solidFill>
                  <a:srgbClr val="ffffff"/>
                </a:solidFill>
                <a:latin typeface="Franklin Gothic Book"/>
              </a:rPr>
              <a:t>  LIDERE COMO UNA MUJER Y NO COMO UN HOMBRE</a:t>
            </a:r>
            <a:endParaRPr b="0" lang="en-US" sz="28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cuidada de poder para realizarl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lider 03"/>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640" y="404640"/>
            <a:ext cx="6913440" cy="6121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lider 03"/>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96" name="Text Box 5"/>
          <p:cNvSpPr/>
          <p:nvPr/>
        </p:nvSpPr>
        <p:spPr>
          <a:xfrm>
            <a:off x="1835280" y="1700280"/>
            <a:ext cx="69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1979640" y="1700280"/>
            <a:ext cx="6840360" cy="4543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es son algunas de la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abilidades de liderazgo que ha observado en las mujeres líderes que usted conoc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 es por lo menos una de esas habilidades que necesita desarrollarla por usted mism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Qué habilidades de liderazgo le han dicho que usted tie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lider 02"/>
          <p:cNvPicPr/>
          <p:nvPr/>
        </p:nvPicPr>
        <p:blipFill>
          <a:blip r:embed="rId1"/>
          <a:stretch/>
        </p:blipFill>
        <p:spPr>
          <a:xfrm>
            <a:off x="0" y="-71280"/>
            <a:ext cx="9144000" cy="6929280"/>
          </a:xfrm>
          <a:prstGeom prst="rect">
            <a:avLst/>
          </a:prstGeom>
          <a:ln w="0">
            <a:noFill/>
          </a:ln>
        </p:spPr>
      </p:pic>
      <p:sp>
        <p:nvSpPr>
          <p:cNvPr id="99" name="PlaceHolder 1"/>
          <p:cNvSpPr>
            <a:spLocks noGrp="1"/>
          </p:cNvSpPr>
          <p:nvPr>
            <p:ph type="title"/>
          </p:nvPr>
        </p:nvSpPr>
        <p:spPr>
          <a:xfrm>
            <a:off x="2689200" y="198000"/>
            <a:ext cx="64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5: </a:t>
            </a:r>
            <a:r>
              <a:rPr b="1" lang="en-US" sz="2400" spc="-1" strike="noStrike">
                <a:solidFill>
                  <a:srgbClr val="ffffff"/>
                </a:solidFill>
                <a:latin typeface="Franklin Gothic Book"/>
              </a:rPr>
              <a:t>MANTENGA SUS OJOS Y SUS OÍDOS ABIERTOS PARA EVITAR CONFLICTOS, GENERALMENTE CON OTRAS MUJERES</a:t>
            </a:r>
            <a:endParaRPr b="0" lang="en-US" sz="2400" spc="-1" strike="noStrike">
              <a:solidFill>
                <a:srgbClr val="000000"/>
              </a:solidFill>
              <a:latin typeface="Calibri"/>
            </a:endParaRPr>
          </a:p>
        </p:txBody>
      </p:sp>
      <p:sp>
        <p:nvSpPr>
          <p:cNvPr id="100" name="PlaceHolder 2"/>
          <p:cNvSpPr>
            <a:spLocks noGrp="1"/>
          </p:cNvSpPr>
          <p:nvPr>
            <p:ph/>
          </p:nvPr>
        </p:nvSpPr>
        <p:spPr>
          <a:xfrm>
            <a:off x="446040" y="2104920"/>
            <a:ext cx="8229600" cy="34848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ider 03"/>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1836360" y="874800"/>
            <a:ext cx="7056360" cy="54338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ider 03"/>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lider 03"/>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1835280" y="27432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105" name="PlaceHolder 2"/>
          <p:cNvSpPr>
            <a:spLocks noGrp="1"/>
          </p:cNvSpPr>
          <p:nvPr>
            <p:ph/>
          </p:nvPr>
        </p:nvSpPr>
        <p:spPr>
          <a:xfrm>
            <a:off x="1897200" y="1782720"/>
            <a:ext cx="6851520" cy="452592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ace algún tiempo la declaración fue hecha en círculos administrativos, “las mujeres son sus peores enemigos”.  ¿Qué significa esta declaración para usted?</a:t>
            </a:r>
            <a:endParaRPr b="0" lang="en-US" sz="3200" spc="-1" strike="noStrike">
              <a:solidFill>
                <a:srgbClr val="000000"/>
              </a:solidFill>
              <a:latin typeface="Calibri"/>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Usted cree que es más fácil para las mujeres apoyar a líderes mujeres hoy? ¿Por qué? ¿Por qué 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lider 02"/>
          <p:cNvPicPr/>
          <p:nvPr/>
        </p:nvPicPr>
        <p:blipFill>
          <a:blip r:embed="rId1"/>
          <a:stretch/>
        </p:blipFill>
        <p:spPr>
          <a:xfrm>
            <a:off x="0" y="-71280"/>
            <a:ext cx="9144000" cy="6929280"/>
          </a:xfrm>
          <a:prstGeom prst="rect">
            <a:avLst/>
          </a:prstGeom>
          <a:ln w="0">
            <a:noFill/>
          </a:ln>
        </p:spPr>
      </p:pic>
      <p:sp>
        <p:nvSpPr>
          <p:cNvPr id="107" name="PlaceHolder 1"/>
          <p:cNvSpPr>
            <a:spLocks noGrp="1"/>
          </p:cNvSpPr>
          <p:nvPr>
            <p:ph type="title"/>
          </p:nvPr>
        </p:nvSpPr>
        <p:spPr>
          <a:xfrm>
            <a:off x="2700000" y="142920"/>
            <a:ext cx="64436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6</a:t>
            </a:r>
            <a:r>
              <a:rPr b="1" lang="en-US" sz="2600" spc="-1" strike="noStrike">
                <a:solidFill>
                  <a:srgbClr val="ffffff"/>
                </a:solidFill>
                <a:latin typeface="Franklin Gothic Book"/>
              </a:rPr>
              <a:t>: IDENTIFIQUE LOS OBSTÁCULOS QUE PUEDEN PREVENIRLE DE CONSEGUIR EL ÉXITO</a:t>
            </a:r>
            <a:endParaRPr b="0" lang="en-US" sz="2600" spc="-1" strike="noStrike">
              <a:solidFill>
                <a:srgbClr val="000000"/>
              </a:solidFill>
              <a:latin typeface="Calibri"/>
            </a:endParaRPr>
          </a:p>
        </p:txBody>
      </p:sp>
      <p:sp>
        <p:nvSpPr>
          <p:cNvPr id="108" name="Text Box 5"/>
          <p:cNvSpPr/>
          <p:nvPr/>
        </p:nvSpPr>
        <p:spPr>
          <a:xfrm>
            <a:off x="395280" y="1844640"/>
            <a:ext cx="8569440" cy="48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o de los obstáculos más evidentes es el </a:t>
            </a:r>
            <a:r>
              <a:rPr b="1" lang="es-ES" sz="2600" spc="-1" strike="noStrike">
                <a:solidFill>
                  <a:srgbClr val="000000"/>
                </a:solidFill>
                <a:latin typeface="Calibri"/>
                <a:ea typeface="Arial"/>
              </a:rPr>
              <a:t>MIED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Otro obstáculo tiene que ver con la </a:t>
            </a:r>
            <a:r>
              <a:rPr b="1" lang="es-ES" sz="2600" spc="-1" strike="noStrike">
                <a:solidFill>
                  <a:srgbClr val="000000"/>
                </a:solidFill>
                <a:latin typeface="Calibri"/>
                <a:ea typeface="Arial"/>
              </a:rPr>
              <a:t>RESPONSABILIDA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El tercer obstáculo puede ser </a:t>
            </a:r>
            <a:r>
              <a:rPr b="1" lang="es-ES" sz="2600" spc="-1" strike="noStrike">
                <a:solidFill>
                  <a:srgbClr val="000000"/>
                </a:solidFill>
                <a:latin typeface="Calibri"/>
                <a:ea typeface="Arial"/>
              </a:rPr>
              <a:t>FALTA DE CORAJ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 cuarto obstáculo puede ser el </a:t>
            </a:r>
            <a:r>
              <a:rPr b="1" lang="es-ES" sz="2600" spc="-1" strike="noStrike">
                <a:solidFill>
                  <a:srgbClr val="000000"/>
                </a:solidFill>
                <a:latin typeface="Calibri"/>
                <a:ea typeface="Arial"/>
              </a:rPr>
              <a:t>EQUIPAJE PERSONAL.</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ider 03"/>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1897200" y="259920"/>
            <a:ext cx="663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1" name="PlaceHolder 2"/>
          <p:cNvSpPr>
            <a:spLocks noGrp="1"/>
          </p:cNvSpPr>
          <p:nvPr>
            <p:ph/>
          </p:nvPr>
        </p:nvSpPr>
        <p:spPr>
          <a:xfrm>
            <a:off x="2041560" y="1628640"/>
            <a:ext cx="6851520" cy="4525920"/>
          </a:xfrm>
          <a:prstGeom prst="rect">
            <a:avLst/>
          </a:prstGeom>
          <a:noFill/>
          <a:ln w="0">
            <a:noFill/>
          </a:ln>
        </p:spPr>
        <p:txBody>
          <a:bodyPr anchor="t">
            <a:normAutofit fontScale="99000"/>
          </a:bodyPr>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a:t>
            </a:r>
            <a:r>
              <a:rPr b="0" lang="es-ES" sz="3200" spc="-1" strike="noStrike">
                <a:solidFill>
                  <a:srgbClr val="000000"/>
                </a:solidFill>
                <a:latin typeface="Calibri"/>
              </a:rPr>
              <a:t>	</a:t>
            </a:r>
            <a:r>
              <a:rPr b="0" lang="es-ES" sz="2800" spc="-1" strike="noStrike">
                <a:solidFill>
                  <a:srgbClr val="000000"/>
                </a:solidFill>
                <a:latin typeface="Calibri"/>
              </a:rPr>
              <a:t>¿Cuáles son algunos de los obstáculos no personales que ustedes creen que tendrán que superar? (Mencione obstáculos personales también, si usted quiere).</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Ustedes creen que las mujeres tienen que saltar más obstáculos en el liderazgo que los hombres?</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Explique por qué usted cree o no cree que las mujeres enfrentan más obstácu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lider 02"/>
          <p:cNvPicPr/>
          <p:nvPr/>
        </p:nvPicPr>
        <p:blipFill>
          <a:blip r:embed="rId1"/>
          <a:stretch/>
        </p:blipFill>
        <p:spPr>
          <a:xfrm>
            <a:off x="0" y="-71280"/>
            <a:ext cx="9144000" cy="6929280"/>
          </a:xfrm>
          <a:prstGeom prst="rect">
            <a:avLst/>
          </a:prstGeom>
          <a:ln w="0">
            <a:noFill/>
          </a:ln>
        </p:spPr>
      </p:pic>
      <p:sp>
        <p:nvSpPr>
          <p:cNvPr id="113" name="PlaceHolder 1"/>
          <p:cNvSpPr>
            <a:spLocks noGrp="1"/>
          </p:cNvSpPr>
          <p:nvPr>
            <p:ph type="title"/>
          </p:nvPr>
        </p:nvSpPr>
        <p:spPr>
          <a:xfrm>
            <a:off x="2484000" y="188640"/>
            <a:ext cx="665964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7</a:t>
            </a:r>
            <a:r>
              <a:rPr b="1" lang="en-US" sz="2400" spc="-1" strike="noStrike">
                <a:solidFill>
                  <a:srgbClr val="ffffff"/>
                </a:solidFill>
                <a:latin typeface="Franklin Gothic Book"/>
              </a:rPr>
              <a:t>: IDENTIFIQUE ESTRATEGIAS PRÁCTICAS PARA SUPERAR OBSTÁCULOS EN EL LIDERAZGO</a:t>
            </a:r>
            <a:endParaRPr b="0" lang="en-US" sz="2400" spc="-1" strike="noStrike">
              <a:solidFill>
                <a:srgbClr val="000000"/>
              </a:solidFill>
              <a:latin typeface="Calibri"/>
            </a:endParaRPr>
          </a:p>
        </p:txBody>
      </p:sp>
      <p:sp>
        <p:nvSpPr>
          <p:cNvPr id="114"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lider 03"/>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2050560" y="274320"/>
            <a:ext cx="66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7" name="PlaceHolder 2"/>
          <p:cNvSpPr>
            <a:spLocks noGrp="1"/>
          </p:cNvSpPr>
          <p:nvPr>
            <p:ph/>
          </p:nvPr>
        </p:nvSpPr>
        <p:spPr>
          <a:xfrm>
            <a:off x="1835280" y="1782720"/>
            <a:ext cx="706752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En los obstáculos mencionados en la Estrategia # 7, identifique maneras como las mujeres pueden superarlo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omparta cómo usted superó por lo menos un obstáculo personal.</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les son algunos pasos pequeños que usted puede recomendar a las mujeres que quieren moverse del punto A al punto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lider 02"/>
          <p:cNvPicPr/>
          <p:nvPr/>
        </p:nvPicPr>
        <p:blipFill>
          <a:blip r:embed="rId1"/>
          <a:stretch/>
        </p:blipFill>
        <p:spPr>
          <a:xfrm>
            <a:off x="0" y="-71280"/>
            <a:ext cx="9144000" cy="6929280"/>
          </a:xfrm>
          <a:prstGeom prst="rect">
            <a:avLst/>
          </a:prstGeom>
          <a:ln w="0">
            <a:noFill/>
          </a:ln>
        </p:spPr>
      </p:pic>
      <p:sp>
        <p:nvSpPr>
          <p:cNvPr id="119"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8</a:t>
            </a:r>
            <a:r>
              <a:rPr b="1" lang="en-US" sz="2800" spc="-1" strike="noStrike">
                <a:solidFill>
                  <a:srgbClr val="ffffff"/>
                </a:solidFill>
                <a:latin typeface="Franklin Gothic Book"/>
              </a:rPr>
              <a:t>: DIRIJA CON CONVICCIÓN, LIMITANDO EXPRESIONES DE EMOCIÓN</a:t>
            </a:r>
            <a:endParaRPr b="0" lang="en-US" sz="2800" spc="-1" strike="noStrike">
              <a:solidFill>
                <a:srgbClr val="000000"/>
              </a:solidFill>
              <a:latin typeface="Calibri"/>
            </a:endParaRPr>
          </a:p>
        </p:txBody>
      </p:sp>
      <p:sp>
        <p:nvSpPr>
          <p:cNvPr id="120" name="PlaceHolder 2"/>
          <p:cNvSpPr>
            <a:spLocks noGrp="1"/>
          </p:cNvSpPr>
          <p:nvPr>
            <p:ph/>
          </p:nvPr>
        </p:nvSpPr>
        <p:spPr>
          <a:xfrm>
            <a:off x="395280" y="1855800"/>
            <a:ext cx="8229600" cy="45259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lider 03"/>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1908000" y="414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3" name="PlaceHolder 2"/>
          <p:cNvSpPr>
            <a:spLocks noGrp="1"/>
          </p:cNvSpPr>
          <p:nvPr>
            <p:ph/>
          </p:nvPr>
        </p:nvSpPr>
        <p:spPr>
          <a:xfrm>
            <a:off x="1907640" y="1844640"/>
            <a:ext cx="70059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ubo momentos en su experiencia cuando usted se sintió que estaba siendo fuerte y los otros pensaron que estaba siendo agresiva y hosti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Qué puede hacer una mujer para mantener sus emociones bajo contro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Qué significa para una líder, mantener sus emociones bajo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lider 02"/>
          <p:cNvPicPr/>
          <p:nvPr/>
        </p:nvPicPr>
        <p:blipFill>
          <a:blip r:embed="rId1"/>
          <a:stretch/>
        </p:blipFill>
        <p:spPr>
          <a:xfrm>
            <a:off x="0" y="-71280"/>
            <a:ext cx="9144000" cy="6929280"/>
          </a:xfrm>
          <a:prstGeom prst="rect">
            <a:avLst/>
          </a:prstGeom>
          <a:ln w="0">
            <a:noFill/>
          </a:ln>
        </p:spPr>
      </p:pic>
      <p:sp>
        <p:nvSpPr>
          <p:cNvPr id="125"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9</a:t>
            </a:r>
            <a:r>
              <a:rPr b="1" lang="en-US" sz="2800" spc="-1" strike="noStrike">
                <a:solidFill>
                  <a:srgbClr val="ffffff"/>
                </a:solidFill>
                <a:latin typeface="Franklin Gothic Book"/>
              </a:rPr>
              <a:t>: SEA ABIERTA A LAS OPORTUNIDADES DE PROMOCIÓN</a:t>
            </a:r>
            <a:endParaRPr b="0" lang="en-US" sz="2800" spc="-1" strike="noStrike">
              <a:solidFill>
                <a:srgbClr val="000000"/>
              </a:solidFill>
              <a:latin typeface="Calibri"/>
            </a:endParaRPr>
          </a:p>
        </p:txBody>
      </p:sp>
      <p:sp>
        <p:nvSpPr>
          <p:cNvPr id="126" name="PlaceHolder 2"/>
          <p:cNvSpPr>
            <a:spLocks noGrp="1"/>
          </p:cNvSpPr>
          <p:nvPr>
            <p:ph/>
          </p:nvPr>
        </p:nvSpPr>
        <p:spPr>
          <a:xfrm>
            <a:off x="395280" y="1773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lider 03"/>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1979280" y="48528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9" name="PlaceHolder 2"/>
          <p:cNvSpPr>
            <a:spLocks noGrp="1"/>
          </p:cNvSpPr>
          <p:nvPr>
            <p:ph/>
          </p:nvPr>
        </p:nvSpPr>
        <p:spPr>
          <a:xfrm>
            <a:off x="1979280" y="1987200"/>
            <a:ext cx="6778440" cy="403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ando mira su vida pasada ¿hubieron oportunidades que usted dejó pasar?</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diferenciar una oferta de una oportunidad?</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Por qué es importante no dejar pasar una oportun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lider 02"/>
          <p:cNvPicPr/>
          <p:nvPr/>
        </p:nvPicPr>
        <p:blipFill>
          <a:blip r:embed="rId1"/>
          <a:stretch/>
        </p:blipFill>
        <p:spPr>
          <a:xfrm>
            <a:off x="0" y="-71280"/>
            <a:ext cx="9144000" cy="6929280"/>
          </a:xfrm>
          <a:prstGeom prst="rect">
            <a:avLst/>
          </a:prstGeom>
          <a:ln w="0">
            <a:noFill/>
          </a:ln>
        </p:spPr>
      </p:pic>
      <p:sp>
        <p:nvSpPr>
          <p:cNvPr id="131" name="PlaceHolder 1"/>
          <p:cNvSpPr>
            <a:spLocks noGrp="1"/>
          </p:cNvSpPr>
          <p:nvPr>
            <p:ph type="title"/>
          </p:nvPr>
        </p:nvSpPr>
        <p:spPr>
          <a:xfrm>
            <a:off x="284328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10</a:t>
            </a:r>
            <a:r>
              <a:rPr b="1" lang="en-US" sz="2800" spc="-1" strike="noStrike">
                <a:solidFill>
                  <a:srgbClr val="ffffff"/>
                </a:solidFill>
                <a:latin typeface="Franklin Gothic Book"/>
              </a:rPr>
              <a:t>: ATRÉVASE A ASUMIR RIESGOS</a:t>
            </a:r>
            <a:endParaRPr b="0" lang="en-US" sz="2800" spc="-1" strike="noStrike">
              <a:solidFill>
                <a:srgbClr val="000000"/>
              </a:solidFill>
              <a:latin typeface="Calibri"/>
            </a:endParaRPr>
          </a:p>
        </p:txBody>
      </p:sp>
      <p:sp>
        <p:nvSpPr>
          <p:cNvPr id="132" name="PlaceHolder 2"/>
          <p:cNvSpPr>
            <a:spLocks noGrp="1"/>
          </p:cNvSpPr>
          <p:nvPr>
            <p:ph/>
          </p:nvPr>
        </p:nvSpPr>
        <p:spPr>
          <a:xfrm>
            <a:off x="456840" y="2142720"/>
            <a:ext cx="8435880" cy="387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líderes eficaces tienen muchas características en común. Las dos más importantes 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ienen el coraje de hacer decisiones difíciles, cuando es necesario realizar decisiones difíciles, 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tán dispuestos a hacer sacrificios personales en beneficio de otr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lider 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879280" y="333000"/>
            <a:ext cx="6264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Franklin Gothic Book"/>
              </a:rPr>
              <a:t>ESTRATEGIA 1</a:t>
            </a:r>
            <a:r>
              <a:rPr b="1" lang="en-US" sz="3200" spc="-1" strike="noStrike">
                <a:solidFill>
                  <a:srgbClr val="ffffff"/>
                </a:solidFill>
                <a:latin typeface="Franklin Gothic Book"/>
              </a:rPr>
              <a:t>: CREER QUE DIOS TAMBIÉN LLAMA A LAS MUJERES PARA SER LÍDERES  </a:t>
            </a:r>
            <a:endParaRPr b="0" lang="en-US" sz="3200" spc="-1" strike="noStrike">
              <a:solidFill>
                <a:srgbClr val="000000"/>
              </a:solidFill>
              <a:latin typeface="Calibri"/>
            </a:endParaRPr>
          </a:p>
        </p:txBody>
      </p:sp>
      <p:sp>
        <p:nvSpPr>
          <p:cNvPr id="59" name="PlaceHolder 2"/>
          <p:cNvSpPr>
            <a:spLocks noGrp="1"/>
          </p:cNvSpPr>
          <p:nvPr>
            <p:ph/>
          </p:nvPr>
        </p:nvSpPr>
        <p:spPr>
          <a:xfrm>
            <a:off x="144000" y="1844280"/>
            <a:ext cx="8820360" cy="4824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lider 03"/>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1908000" y="549360"/>
            <a:ext cx="6778800" cy="568800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lider 02"/>
          <p:cNvPicPr/>
          <p:nvPr/>
        </p:nvPicPr>
        <p:blipFill>
          <a:blip r:embed="rId1"/>
          <a:stretch/>
        </p:blipFill>
        <p:spPr>
          <a:xfrm>
            <a:off x="0" y="-71280"/>
            <a:ext cx="9144000" cy="6929280"/>
          </a:xfrm>
          <a:prstGeom prst="rect">
            <a:avLst/>
          </a:prstGeom>
          <a:ln w="0">
            <a:noFill/>
          </a:ln>
        </p:spPr>
      </p:pic>
      <p:sp>
        <p:nvSpPr>
          <p:cNvPr id="136" name="PlaceHolder 1"/>
          <p:cNvSpPr>
            <a:spLocks noGrp="1"/>
          </p:cNvSpPr>
          <p:nvPr>
            <p:ph/>
          </p:nvPr>
        </p:nvSpPr>
        <p:spPr>
          <a:xfrm>
            <a:off x="107640" y="1782720"/>
            <a:ext cx="4321080" cy="5075280"/>
          </a:xfrm>
          <a:prstGeom prst="rect">
            <a:avLst/>
          </a:prstGeom>
          <a:noFill/>
          <a:ln w="0">
            <a:noFill/>
          </a:ln>
        </p:spPr>
        <p:txBody>
          <a:bodyPr anchor="t">
            <a:normAutofit fontScale="98000"/>
          </a:bodyPr>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Creer que Dios también llama a las mujeres para ser líderes.</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írese como una de aquellas líderes que Dios ha llama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Desarrolle las habilidades de liderazgo que Dios le ha concedi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Lidere como una mujer y no como un hombre.</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antenga sus ojos y sus oídos abiertos para evitar conflictos, generalmente con otras mujeres.</a:t>
            </a:r>
            <a:endParaRPr b="0" lang="en-US" sz="2200" spc="-1" strike="noStrike">
              <a:solidFill>
                <a:srgbClr val="000000"/>
              </a:solidFill>
              <a:latin typeface="Calibri"/>
            </a:endParaRPr>
          </a:p>
        </p:txBody>
      </p:sp>
      <p:sp>
        <p:nvSpPr>
          <p:cNvPr id="137" name="PlaceHolder 2"/>
          <p:cNvSpPr>
            <a:spLocks noGrp="1"/>
          </p:cNvSpPr>
          <p:nvPr>
            <p:ph/>
          </p:nvPr>
        </p:nvSpPr>
        <p:spPr>
          <a:xfrm>
            <a:off x="4642920" y="1855800"/>
            <a:ext cx="4249800" cy="4525920"/>
          </a:xfrm>
          <a:prstGeom prst="rect">
            <a:avLst/>
          </a:prstGeom>
          <a:noFill/>
          <a:ln w="0">
            <a:noFill/>
          </a:ln>
        </p:spPr>
        <p:txBody>
          <a:bodyPr anchor="t">
            <a:normAutofit fontScale="98000"/>
          </a:bodyPr>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6.</a:t>
            </a:r>
            <a:r>
              <a:rPr b="1" lang="en-US" sz="2400" spc="-1" strike="noStrike">
                <a:solidFill>
                  <a:srgbClr val="000000"/>
                </a:solidFill>
                <a:latin typeface="Franklin Gothic Book"/>
              </a:rPr>
              <a:t>  </a:t>
            </a:r>
            <a:r>
              <a:rPr b="1" lang="es-ES" sz="2200" spc="-1" strike="noStrike">
                <a:solidFill>
                  <a:srgbClr val="000000"/>
                </a:solidFill>
                <a:latin typeface="Franklin Gothic Book"/>
              </a:rPr>
              <a:t>Identifique los obstáculos que pueden prevenirle de conseguir el éxit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7.  Identifique estrategias prácticas para superar obstáculos en el liderazg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8.  Dirija con convicción, limitando expresiones de e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9.  Sea abierta a las oportunidades de pro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10. Atrévase a asumir riesgos.</a:t>
            </a:r>
            <a:endParaRPr b="0" lang="en-US" sz="2200" spc="-1" strike="noStrike">
              <a:solidFill>
                <a:srgbClr val="000000"/>
              </a:solidFill>
              <a:latin typeface="Calibri"/>
            </a:endParaRPr>
          </a:p>
          <a:p>
            <a:pPr marL="372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Text Box 8"/>
          <p:cNvSpPr/>
          <p:nvPr/>
        </p:nvSpPr>
        <p:spPr>
          <a:xfrm>
            <a:off x="3419640" y="404640"/>
            <a:ext cx="531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DIEZ  ESTRATEGI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lider 03"/>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41" name="PlaceHolder 2"/>
          <p:cNvSpPr>
            <a:spLocks noGrp="1"/>
          </p:cNvSpPr>
          <p:nvPr>
            <p:ph/>
          </p:nvPr>
        </p:nvSpPr>
        <p:spPr>
          <a:xfrm>
            <a:off x="1897200" y="1782720"/>
            <a:ext cx="685152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en la Biblia que tuvo el coraje de hacer decisiones difícile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de los tiempos modernos que es aclamada como una que ha hechos sacrificios personales en beneficio de los demá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Qué es coraj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lider 03"/>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1908000" y="660240"/>
            <a:ext cx="6707520" cy="5793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lider 03"/>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Franklin Gothic Book"/>
              </a:rPr>
              <a:t>Por ejemplo:</a:t>
            </a:r>
            <a:endParaRPr b="0" lang="en-US" sz="3200" spc="-1" strike="noStrike">
              <a:solidFill>
                <a:srgbClr val="000000"/>
              </a:solidFill>
              <a:latin typeface="Calibri"/>
            </a:endParaRPr>
          </a:p>
        </p:txBody>
      </p:sp>
      <p:sp>
        <p:nvSpPr>
          <p:cNvPr id="62" name="PlaceHolder 2"/>
          <p:cNvSpPr>
            <a:spLocks noGrp="1"/>
          </p:cNvSpPr>
          <p:nvPr>
            <p:ph/>
          </p:nvPr>
        </p:nvSpPr>
        <p:spPr>
          <a:xfrm>
            <a:off x="1753920" y="1341000"/>
            <a:ext cx="7210440" cy="504036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ignoró rituales y leyes relacionadas a la impureza, tales como en el caso de la mujer a quién Él curó de hemorragia menstrual (Marcos 5:25-34).</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lider 03"/>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587520"/>
            <a:ext cx="7201080" cy="59371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aceptó a las mujeres en su círculo íntimo, de acuerdo a Lucas, quién describe las muchas mujeres partidarias que seguían a Cristo (Lucas 8:1-3).</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Las mujeres estuvieron presentes en su crucifixión (Mateo 27:55-56).</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apareció a una mujer después de su resurrección, demostrando que las mujeres podrían ser testigos creíbles también.</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expresó gran preocupación por las viudas (Lucas 4:26; 7:11; 18:1; 20:47; y 21:1).</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Trató a las parejas casadas por igual en asuntos que concernían al divorcio (Marcos 10:1).</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lider 03"/>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7451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3200" spc="-1" strike="noStrike">
                <a:solidFill>
                  <a:srgbClr val="000000"/>
                </a:solidFill>
                <a:latin typeface="Calibri"/>
              </a:rPr>
              <a:t>Sus historias con frecuencia incluyen a            mujeres como también a hombres.</a:t>
            </a:r>
            <a:endParaRPr b="0" lang="en-US" sz="32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  Simeón y Ana (Lucas 2:25-28).</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La oveja perdida. La mujer y la moneda perdida y el Hijo Prodigo (Lucas 15).</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nanías y Safira (Hechos 5:1-11).</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d)  Lidia y la conversión del carcelero (Hechos 16:14-34).</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e)  Dionicio y Dámaris (Hechos 17: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lider 03"/>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825200" y="549000"/>
            <a:ext cx="6994440" cy="583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enseñanza de Priscilla sobre Apodos, muestra que las mujeres funcionaban como profesoras de autoridad”.</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ider 03"/>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021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Usted cree que Dios llama a las mujeres para que sean líderes? ¿Ha estado usted siempre convencida de esto?</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Quiénes son algunas de las mujeres líderes tanto antiguas como modernas que son sus modelo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Hay roles de liderazgo que no son adecuados para las mujeres cristia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lider 02"/>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2</a:t>
            </a:r>
            <a:r>
              <a:rPr b="1" lang="en-US" sz="2800" spc="-1" strike="noStrike">
                <a:solidFill>
                  <a:srgbClr val="ffffff"/>
                </a:solidFill>
                <a:latin typeface="Franklin Gothic Book"/>
              </a:rPr>
              <a:t>: MÍRESE COMO UNA DE AQUELLAS LÍDERES QUE DIOS HA LLAMADO</a:t>
            </a:r>
            <a:endParaRPr b="0" lang="en-US" sz="28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glaucia.meireles</cp:lastModifiedBy>
  <dcterms:modified xsi:type="dcterms:W3CDTF">2010-03-10T18:48:36Z</dcterms:modified>
  <cp:revision>47</cp:revision>
  <dc:subject/>
  <dc:title>Slide 1</dc:title>
</cp:coreProperties>
</file>